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3.gif" ContentType="image/gif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65C6-39AD-44CB-9461-BA2E3ED956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ossing Membranes 1 – Passiv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ok Reference: p.22-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ing Membranes 1 – Passiv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particles tend to diffuse faster than larger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particles tend to diffuse faster than larger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takes place more quickly through thin membranes (e.g. exchange of gases through the alveolar wall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takes place more quickly through thin membranes (e.g. exchange of gases through the alveolar wall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rger the surface area the higher the rate of diffusion (e.g. in gases diffusing into/out of leaves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rger the surface area the higher the rate of diffusion (e.g. in gases diffusing into/out of leaves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orter the distance, the faster the rate of diffus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crease in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the rate of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orter the distance, the faster the rate of diffus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crease in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the rate of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cilitated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ster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membrane protein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nnel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rier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ilitated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er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 protein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 facilitate the diffusion of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an ions not diffuse freely across the membra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each channel protein is specific to one type of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 facilitate the diffusion of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an ions not diffuse freely across the membra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each channel protein is specific to one type of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 can open or close their pores acting like gates depending upon the cell’s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 can open or close their pores acting like gates depending upon the cell’s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s are more sophisticated in the way they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low the diffusion across the membrane of larger polar molecules, such as sugars and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s are more sophisticated in the way they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low the diffusion across the membrane of larger polar molecules, such as sugars and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 particular molecule attaches to the carrier protein at it binding site, the carrier protein changes its shape to ‘deliver’ the molecule through th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 particular molecule attaches to the carrier protein at it binding site, the carrier protein changes its shape to ‘deliver’ the molecule through th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fter Shave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fter Shave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usion in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in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usion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diffusion? (defin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is the movement of molecules (or ions) from a region of high concentration to a region of lower concentration until they are spread out eve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diffusion? (defin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is the movement of molecules (or ions) from a region of high concentration to a region of lower concentration until they are spread out eve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:Diffusion in the Alveoli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 diffusing into the blood and CO2 diffusing out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:Diffusion in the Alveoli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 diffusing into the blood and CO2 diffusing out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: Some digested food diffuses across the gut wall into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: Some digested food diffuses across the gut wall into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ffects the rate of diffus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ntration gradient: The greater the difference in the concentration of a substance in two areas, the faster the rate of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e of diffusion is directly proportional to the concentration grad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ffects the rate of diffus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ntration gradient: The greater the difference in the concentration of a substance in two areas, the faster the rate of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e of diffusion is directly proportional to the concentration grad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ffects the rate of diffus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ffects the rate of diffus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BD63-9139-401E-9104-695EDD744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67E7-A327-44E7-8B85-7448183E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7767-36B8-4D12-9C6A-EC93EA3A6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1144-E124-497E-A5B6-1526DB334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C2B9-6CC6-4604-BE88-D8FFC4BC1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498A-1511-4DB1-8237-FCD06ADB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E296-9154-4D20-B1DF-037DF366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71B0C-F5BC-4A67-B546-DA25C571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FEB2B-43C1-46F8-B23F-71369B05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AB011-8FF0-4871-BAB5-27F6258F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39C8-E952-45B0-B732-B8F76457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8D6E-9008-4709-96D3-D36FBC2C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D9E6A-A8E1-43D5-98EA-03A44F5C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85BA8-EACE-440A-9208-D1156EFD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6B33-72C9-4035-BA95-179090C4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4691-6CE8-40C0-BE84-D0A6FD436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BE5F-8BE4-4714-84A3-7F8B7BA92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E01F-CD1D-4325-8E14-FD02DFEA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A6C7-803F-437D-A543-E386D351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F6A8-06AD-4BE2-BA6D-B59A65A6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8FB4-75CE-45F2-B8CE-E7F3B9A4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6D1E-7D31-4F46-B36B-496A67B9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B612-15AD-4680-BFDC-56F7388F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584B-5A21-42E9-B352-0ED0B87D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4F93-BD9A-4A19-A4B1-254E0E2C93A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7B2B-D23E-4903-A502-F5D5CBDF5B9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0066"/>
                </a:solidFill>
                <a:latin typeface="Arial"/>
              </a:rPr>
              <a:t>Crossing Membranes 1 – Passive Processe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k Reference: p.22-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Small particles tend to diffuse faster than larger on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0" name="Picture 6" descr="MembranePoresandMolecules"/>
          <p:cNvPicPr/>
          <p:nvPr/>
        </p:nvPicPr>
        <p:blipFill>
          <a:blip r:embed="rId1"/>
          <a:stretch/>
        </p:blipFill>
        <p:spPr>
          <a:xfrm>
            <a:off x="971640" y="1773360"/>
            <a:ext cx="7416720" cy="460836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000" y="134100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Diffusion takes place more quickly through thin membranes (e.g. exchange of gases through the alveolar wall)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3" name="Picture 5" descr="3097_web"/>
          <p:cNvPicPr/>
          <p:nvPr/>
        </p:nvPicPr>
        <p:blipFill>
          <a:blip r:embed="rId1"/>
          <a:stretch/>
        </p:blipFill>
        <p:spPr>
          <a:xfrm>
            <a:off x="5003640" y="2133720"/>
            <a:ext cx="3810240" cy="4390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respmemb"/>
          <p:cNvPicPr/>
          <p:nvPr/>
        </p:nvPicPr>
        <p:blipFill>
          <a:blip r:embed="rId2"/>
          <a:stretch/>
        </p:blipFill>
        <p:spPr>
          <a:xfrm>
            <a:off x="611280" y="3357720"/>
            <a:ext cx="3419280" cy="200952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280" y="9075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The larger the surface area the higher the rate of diffusion (e.g. in gases diffusing into/out of leaves)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7" name="Picture 5" descr="C3leaf"/>
          <p:cNvPicPr/>
          <p:nvPr/>
        </p:nvPicPr>
        <p:blipFill>
          <a:blip r:embed="rId1"/>
          <a:stretch/>
        </p:blipFill>
        <p:spPr>
          <a:xfrm>
            <a:off x="539640" y="2349360"/>
            <a:ext cx="8209080" cy="417528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The shorter the distance, the faster the rate of diffusion</a:t>
            </a:r>
            <a:br>
              <a:rPr sz="3500"/>
            </a:b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395640" y="3860640"/>
            <a:ext cx="627948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Arial"/>
              </a:rPr>
              <a:t>An increase in temp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33cc"/>
                </a:solidFill>
                <a:latin typeface="Arial"/>
              </a:rPr>
              <a:t>increases the rate of diff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000" y="-647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Facilitated Diffus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aster mov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ell membrane proteins u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hannel prote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arrier prote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facilitatedDiffusion"/>
          <p:cNvPicPr/>
          <p:nvPr/>
        </p:nvPicPr>
        <p:blipFill>
          <a:blip r:embed="rId1"/>
          <a:stretch/>
        </p:blipFill>
        <p:spPr>
          <a:xfrm>
            <a:off x="3564000" y="2708280"/>
            <a:ext cx="5162400" cy="386712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Channel Proteins facilitate the diffusion of 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3322800" cy="32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cc"/>
                </a:solidFill>
                <a:latin typeface="Arial"/>
              </a:rPr>
              <a:t>Why can ions not diffuse freely across the membran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facil_di"/>
          <p:cNvPicPr/>
          <p:nvPr/>
        </p:nvPicPr>
        <p:blipFill>
          <a:blip r:embed="rId1"/>
          <a:stretch/>
        </p:blipFill>
        <p:spPr>
          <a:xfrm>
            <a:off x="4211640" y="2349360"/>
            <a:ext cx="4105440" cy="3381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7"/>
          <p:cNvSpPr/>
          <p:nvPr/>
        </p:nvSpPr>
        <p:spPr>
          <a:xfrm>
            <a:off x="4500720" y="580536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80"/>
                </a:solidFill>
                <a:latin typeface="Arial"/>
              </a:rPr>
              <a:t>Usually each channel protein is specific to one type of 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Channel proteins can open or close their pores acting like gates depending upon the cell’s need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2" name="Picture 5" descr="facilitateddiffusion"/>
          <p:cNvPicPr/>
          <p:nvPr/>
        </p:nvPicPr>
        <p:blipFill>
          <a:blip r:embed="rId1"/>
          <a:stretch/>
        </p:blipFill>
        <p:spPr>
          <a:xfrm>
            <a:off x="684360" y="2595600"/>
            <a:ext cx="7920000" cy="320976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Carrier proteins are more sophisticated in the way they work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15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y allow the diffusion across the membrane of larger polar molecules, such as sugars and amino ac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9" descr="facildiffmodels"/>
          <p:cNvPicPr/>
          <p:nvPr/>
        </p:nvPicPr>
        <p:blipFill>
          <a:blip r:embed="rId1"/>
          <a:stretch/>
        </p:blipFill>
        <p:spPr>
          <a:xfrm>
            <a:off x="2124000" y="3552840"/>
            <a:ext cx="5058000" cy="330516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000" y="1557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Once a particular molecule attaches to the carrier protein at it binding site, the carrier protein changes its shape to ‘deliver’ the molecule through the membran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9" name="Picture 5" descr="image025"/>
          <p:cNvPicPr/>
          <p:nvPr/>
        </p:nvPicPr>
        <p:blipFill>
          <a:blip r:embed="rId1"/>
          <a:stretch/>
        </p:blipFill>
        <p:spPr>
          <a:xfrm>
            <a:off x="1476360" y="3284640"/>
            <a:ext cx="5572080" cy="291456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Diffus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43520" cy="12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After Shave M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10275248"/>
          <p:cNvPicPr/>
          <p:nvPr/>
        </p:nvPicPr>
        <p:blipFill>
          <a:blip r:embed="rId1"/>
          <a:stretch/>
        </p:blipFill>
        <p:spPr>
          <a:xfrm>
            <a:off x="3924360" y="299736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-647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Diffusion in Ai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4" name="Picture 5" descr="chimneys_"/>
          <p:cNvPicPr/>
          <p:nvPr/>
        </p:nvPicPr>
        <p:blipFill>
          <a:blip r:embed="rId1"/>
          <a:stretch/>
        </p:blipFill>
        <p:spPr>
          <a:xfrm>
            <a:off x="0" y="549360"/>
            <a:ext cx="6156360" cy="4616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diffusion-animated"/>
          <p:cNvPicPr/>
          <p:nvPr/>
        </p:nvPicPr>
        <p:blipFill>
          <a:blip r:embed="rId2"/>
          <a:stretch/>
        </p:blipFill>
        <p:spPr>
          <a:xfrm>
            <a:off x="6286680" y="400068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Diffusion in wat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8" name="Picture 11" descr="GB1-os18"/>
          <p:cNvPicPr/>
          <p:nvPr/>
        </p:nvPicPr>
        <p:blipFill>
          <a:blip r:embed="rId1"/>
          <a:stretch/>
        </p:blipFill>
        <p:spPr>
          <a:xfrm>
            <a:off x="1692360" y="2276640"/>
            <a:ext cx="5162400" cy="386712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-458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0066"/>
                </a:solidFill>
                <a:latin typeface="Arial"/>
              </a:rPr>
              <a:t>What is diffusion? (definition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cc"/>
                </a:solidFill>
                <a:latin typeface="Comic Sans MS"/>
              </a:rPr>
              <a:t>Diffusion is the movement of molecules (or ions) from a region of high concentration to a region of lower concentration until they are spread out even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1304"/>
          <p:cNvPicPr/>
          <p:nvPr/>
        </p:nvPicPr>
        <p:blipFill>
          <a:blip r:embed="rId1"/>
          <a:stretch/>
        </p:blipFill>
        <p:spPr>
          <a:xfrm>
            <a:off x="395280" y="2997360"/>
            <a:ext cx="8334360" cy="386064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cc0066"/>
                </a:solidFill>
                <a:latin typeface="Arial"/>
              </a:rPr>
              <a:t>Example</a:t>
            </a:r>
            <a:r>
              <a:rPr b="1" lang="en-GB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500" spc="-1" strike="noStrike">
                <a:solidFill>
                  <a:srgbClr val="cc0066"/>
                </a:solidFill>
                <a:latin typeface="Arial"/>
              </a:rPr>
              <a:t>1</a:t>
            </a:r>
            <a:r>
              <a:rPr b="1" lang="en-GB" sz="3500" spc="-1" strike="noStrike">
                <a:solidFill>
                  <a:srgbClr val="000000"/>
                </a:solidFill>
                <a:latin typeface="Arial"/>
              </a:rPr>
              <a:t>:Diffusion in the Alveoli:</a:t>
            </a: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500"/>
            </a:br>
            <a:r>
              <a:rPr b="1" lang="en-GB" sz="35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35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GB" sz="3500" spc="-1" strike="noStrike">
                <a:solidFill>
                  <a:srgbClr val="ff0000"/>
                </a:solidFill>
                <a:latin typeface="Arial"/>
              </a:rPr>
              <a:t> diffusing into the blood</a:t>
            </a: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GB" sz="35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GB" sz="3500" spc="-1" strike="noStrike">
                <a:solidFill>
                  <a:srgbClr val="0033cc"/>
                </a:solidFill>
                <a:latin typeface="Arial"/>
              </a:rPr>
              <a:t>CO</a:t>
            </a:r>
            <a:r>
              <a:rPr b="1" lang="en-GB" sz="35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1" lang="en-GB" sz="3500" spc="-1" strike="noStrike">
                <a:solidFill>
                  <a:srgbClr val="0033cc"/>
                </a:solidFill>
                <a:latin typeface="Arial"/>
              </a:rPr>
              <a:t> diffusing out of the blood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5" name="Picture 5" descr="0013n046"/>
          <p:cNvPicPr/>
          <p:nvPr/>
        </p:nvPicPr>
        <p:blipFill>
          <a:blip r:embed="rId1"/>
          <a:stretch/>
        </p:blipFill>
        <p:spPr>
          <a:xfrm>
            <a:off x="395280" y="2516040"/>
            <a:ext cx="8137440" cy="434196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cc0066"/>
                </a:solidFill>
                <a:latin typeface="Arial"/>
              </a:rPr>
              <a:t>Example 2: </a:t>
            </a:r>
            <a:r>
              <a:rPr b="1" lang="en-GB" sz="3500" spc="-1" strike="noStrike">
                <a:solidFill>
                  <a:srgbClr val="0033cc"/>
                </a:solidFill>
                <a:latin typeface="Arial"/>
              </a:rPr>
              <a:t>Some digested food diffuses across the gut wall into the blood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8" name="Picture 5" descr="fig2_xl"/>
          <p:cNvPicPr/>
          <p:nvPr/>
        </p:nvPicPr>
        <p:blipFill>
          <a:blip r:embed="rId1"/>
          <a:stretch/>
        </p:blipFill>
        <p:spPr>
          <a:xfrm>
            <a:off x="395280" y="1916280"/>
            <a:ext cx="8424720" cy="468936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What affects the rate of diffusio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147160" cy="16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ncentration gradient: The greater the difference in the concentration of a substance in two areas, the faster the rate of diffu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Concentration_Gradient_carbondioxide"/>
          <p:cNvPicPr/>
          <p:nvPr/>
        </p:nvPicPr>
        <p:blipFill>
          <a:blip r:embed="rId1"/>
          <a:stretch/>
        </p:blipFill>
        <p:spPr>
          <a:xfrm>
            <a:off x="179280" y="3141720"/>
            <a:ext cx="4248360" cy="3716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water"/>
          <p:cNvPicPr/>
          <p:nvPr/>
        </p:nvPicPr>
        <p:blipFill>
          <a:blip r:embed="rId2"/>
          <a:stretch/>
        </p:blipFill>
        <p:spPr>
          <a:xfrm>
            <a:off x="4572000" y="3860640"/>
            <a:ext cx="4276800" cy="25336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0"/>
          <p:cNvSpPr/>
          <p:nvPr/>
        </p:nvSpPr>
        <p:spPr>
          <a:xfrm>
            <a:off x="1835280" y="4149720"/>
            <a:ext cx="30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33cc"/>
                </a:solidFill>
                <a:uFillTx/>
                <a:latin typeface="Arial"/>
              </a:rPr>
              <a:t>The rate of diffusion is directly proportional to the concentration 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What affects the rate of diffusio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7" name="Picture 7" descr="12_02_diffusion_rate"/>
          <p:cNvPicPr/>
          <p:nvPr/>
        </p:nvPicPr>
        <p:blipFill>
          <a:blip r:embed="rId1"/>
          <a:stretch/>
        </p:blipFill>
        <p:spPr>
          <a:xfrm>
            <a:off x="1258920" y="1771560"/>
            <a:ext cx="6838920" cy="508644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20:13:43Z</dcterms:created>
  <dc:creator>User</dc:creator>
  <dc:description/>
  <dc:language>en-US</dc:language>
  <cp:lastModifiedBy>LEGION2</cp:lastModifiedBy>
  <dcterms:modified xsi:type="dcterms:W3CDTF">2016-01-11T13:14:41Z</dcterms:modified>
  <cp:revision>11</cp:revision>
  <dc:subject/>
  <dc:title>Crossing Membranes 1 – Passive Processes</dc:title>
</cp:coreProperties>
</file>